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065D-AD51-46F1-9214-AE8390EE0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CFD3-C03A-496C-9AB7-C77B67958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50B3-6BED-4B33-B276-04E63F0B2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515E-0108-4247-AEF6-DB66A5875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F8DE-5D4D-4788-A179-87C296DB5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7FDC-525B-4D0F-9225-25D80BB8A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BEDB-DCB2-4E70-AFD7-52D7A5890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F386-E48E-4064-B82E-CA6CE4E77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9EBF-A669-45B7-91BE-7F2916240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F9A4-9A16-4F15-8CDB-8F309DEB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6C35-8352-4995-A3B5-5265F6D1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5BB2-2425-4CE1-B2DE-6513B2B7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5B034-42DD-460C-93A9-A1765CFF203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Population Dynamics, Carrying Capacity, and Conservation Biolog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r. Richard Cl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hattanooga State Technical Community Colle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Reproductive Patterns and Survival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40" y="1209600"/>
            <a:ext cx="4859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sexual rep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800" y="1851120"/>
            <a:ext cx="4604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xual rep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020920" y="1208160"/>
            <a:ext cx="39675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-selected spe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020920" y="1849320"/>
            <a:ext cx="41198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K-selected spe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4143240" y="2460600"/>
            <a:ext cx="3889440" cy="4305240"/>
            <a:chOff x="4143240" y="2460600"/>
            <a:chExt cx="3889440" cy="4305240"/>
          </a:xfrm>
        </p:grpSpPr>
        <p:pic>
          <p:nvPicPr>
            <p:cNvPr id="187" name="" descr=""/>
            <p:cNvPicPr/>
            <p:nvPr/>
          </p:nvPicPr>
          <p:blipFill>
            <a:blip r:embed="rId1"/>
            <a:stretch/>
          </p:blipFill>
          <p:spPr>
            <a:xfrm>
              <a:off x="4143240" y="2460600"/>
              <a:ext cx="3889440" cy="430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5317560" y="2822400"/>
              <a:ext cx="1541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-Selected Spec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368240" y="3449520"/>
              <a:ext cx="94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ckroa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909840" y="3449520"/>
              <a:ext cx="90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andel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174920" y="3681360"/>
              <a:ext cx="3829320" cy="30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any small offspr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Little or no parental care and protection of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ffspr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arly reproductive ag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ost offspring die before reaching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eproductive ag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mall adult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dapted to unstable climate and environmental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High population growth rate (r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opulation size fluctuates wildly above and below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arrying capacity (K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Generalist nich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Low ability to compet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arly successional specie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81000" y="2436840"/>
            <a:ext cx="3909960" cy="4329000"/>
            <a:chOff x="81000" y="2436840"/>
            <a:chExt cx="3909960" cy="43290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tretch/>
          </p:blipFill>
          <p:spPr>
            <a:xfrm>
              <a:off x="81000" y="2436840"/>
              <a:ext cx="3909960" cy="43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273960" y="3784680"/>
              <a:ext cx="3527280" cy="266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ewer, larger offspr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High parental care and protection of offspr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Later reproductive ag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ost offspring survive to reproductive ag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Larger adult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dapted to stable climate and environmental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Lower population growth rate (r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opulation size fairly stable and usually close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to carrying capacity (K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pecialist nich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High ability to compet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Late successional specie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31280" y="3551040"/>
              <a:ext cx="80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lepha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805480" y="3551040"/>
              <a:ext cx="77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aguar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40920" y="2808360"/>
              <a:ext cx="1591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K-Selected Spec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7696080" y="632772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9.10b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. 2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urvivorship Curv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58840" y="1233360"/>
            <a:ext cx="7172280" cy="5593680"/>
            <a:chOff x="258840" y="1233360"/>
            <a:chExt cx="7172280" cy="5593680"/>
          </a:xfrm>
        </p:grpSpPr>
        <p:pic>
          <p:nvPicPr>
            <p:cNvPr id="202" name="" descr=""/>
            <p:cNvPicPr/>
            <p:nvPr/>
          </p:nvPicPr>
          <p:blipFill>
            <a:blip r:embed="rId1"/>
            <a:stretch/>
          </p:blipFill>
          <p:spPr>
            <a:xfrm>
              <a:off x="1025640" y="1233360"/>
              <a:ext cx="6386400" cy="511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1019160" y="1386000"/>
              <a:ext cx="6411960" cy="490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16200000">
              <a:off x="-1216440" y="3476160"/>
              <a:ext cx="3288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ercentage surviving (log scal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22000" y="1758960"/>
              <a:ext cx="51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30000" y="280188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38360" y="3925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38360" y="50036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938400" y="6489720"/>
              <a:ext cx="56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7543800" y="621036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9.11, p. 2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Conservation Biology:  Sustaining Wildlife Population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40" y="1606680"/>
            <a:ext cx="8911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vestigate human impacts on biodivers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2560" y="2368440"/>
            <a:ext cx="7271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deas for maintaining biodivers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2200" y="3130560"/>
            <a:ext cx="7107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dangered species manag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5800" y="3892680"/>
            <a:ext cx="9056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ildlife reserves and ecological resto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4360" y="4654440"/>
            <a:ext cx="4753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cological econom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920" y="5416560"/>
            <a:ext cx="4807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vironmental eth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640" y="6178680"/>
            <a:ext cx="48315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ildlife manag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4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Human Impacts on Ecosystem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11444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08240" y="1403280"/>
            <a:ext cx="8364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abitat degradation and fragm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08600" y="2163600"/>
            <a:ext cx="5467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cosystem simplif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09680" y="2925720"/>
            <a:ext cx="4170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enetic resist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09680" y="3686040"/>
            <a:ext cx="4703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edator elimi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07520" y="4448160"/>
            <a:ext cx="7273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troduction of non-native spe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09680" y="5208480"/>
            <a:ext cx="7763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verharvesting renewable resour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9680" y="5970600"/>
            <a:ext cx="7649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terference with ecological syst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Learning from Nature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11444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31560" y="1479600"/>
            <a:ext cx="3906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terdepend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32280" y="2338560"/>
            <a:ext cx="2521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versit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2640" y="3198960"/>
            <a:ext cx="2698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silienc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1560" y="4057560"/>
            <a:ext cx="3208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daptabilit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32280" y="4917960"/>
            <a:ext cx="3969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npredictabilit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31920" y="5778360"/>
            <a:ext cx="20138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imit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291560" y="3259080"/>
            <a:ext cx="50691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e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onnection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. 2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9040" y="1427040"/>
            <a:ext cx="7672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actors affecting population siz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9760" y="2664000"/>
            <a:ext cx="7062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pecies reproductive patter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9400" y="3900600"/>
            <a:ext cx="7009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pecies survivorship patter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5138640"/>
            <a:ext cx="78138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nservation biology and human impacts on eco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Population Dynamics and Carrying Capacit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7760" y="1604880"/>
            <a:ext cx="47325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opulation dynam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8120" y="2465280"/>
            <a:ext cx="6662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Zero population growth (ZPG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0640" y="3327480"/>
            <a:ext cx="9184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iotic potential (intrinsic rat of increase [r]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8480" y="4189320"/>
            <a:ext cx="5619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vironmental resist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8840" y="5051520"/>
            <a:ext cx="4171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arrying capac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0" y="5913360"/>
            <a:ext cx="7550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inimum viable population (MVP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opulation Dispers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1444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11040" y="1938240"/>
            <a:ext cx="2584440" cy="2990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311640" y="1938240"/>
            <a:ext cx="2584440" cy="2990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6313320" y="1938240"/>
            <a:ext cx="2584440" cy="2990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974160" y="4937040"/>
            <a:ext cx="125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ump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elephan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724200" y="4937040"/>
            <a:ext cx="169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ni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creosote bus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981480" y="4937040"/>
            <a:ext cx="138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and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dandelio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543800" y="626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9.2, p. 1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Factors Affecting Population Size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1444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174680" y="1405080"/>
            <a:ext cx="5229360" cy="535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978280" y="115092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23960" y="3305160"/>
            <a:ext cx="13665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owth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biotic potenti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79000" y="3932280"/>
            <a:ext cx="2207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vorable l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vorable tempera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vorable chemical environ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optimal level of critical nutrie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89200" y="364644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bio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43200" y="454644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o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79000" y="4716360"/>
            <a:ext cx="2323440" cy="21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gh reproductive r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lized nic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equate food supp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itable habit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ility to compete for resour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ility to hide from or def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ainst pred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ility to resist diseases and parasi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ility to migrate and live in othe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bita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ility to adapt to environmen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33440" y="3305160"/>
            <a:ext cx="21254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crease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environmental resis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31560" y="3862440"/>
            <a:ext cx="22838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o much or too little l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mperature too high or too 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favorable chemical environ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too much or too little of critic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utrie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627440" y="364644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bio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81440" y="454644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o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31200" y="4716360"/>
            <a:ext cx="2414880" cy="22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w reproductive r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ecialized nic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adequate food supp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uitable or destroyed habit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o many competi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ufficient ability to hide from or def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ainst pred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ability to resist diseases and parasi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ability to migrate and live in othe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bita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ability to adapt to environmen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43800" y="626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9.3, p. 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xponential and Logistic Growth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1444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502320" y="657540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514520" y="1241280"/>
            <a:ext cx="6181200" cy="2647080"/>
            <a:chOff x="1514520" y="1241280"/>
            <a:chExt cx="6181200" cy="2647080"/>
          </a:xfrm>
        </p:grpSpPr>
        <p:grpSp>
          <p:nvGrpSpPr>
            <p:cNvPr id="89" name=""/>
            <p:cNvGrpSpPr/>
            <p:nvPr/>
          </p:nvGrpSpPr>
          <p:grpSpPr>
            <a:xfrm>
              <a:off x="1514520" y="1241280"/>
              <a:ext cx="2597040" cy="2645640"/>
              <a:chOff x="1514520" y="1241280"/>
              <a:chExt cx="2597040" cy="2645640"/>
            </a:xfrm>
          </p:grpSpPr>
          <p:pic>
            <p:nvPicPr>
              <p:cNvPr id="9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517760" y="1241280"/>
                <a:ext cx="2593800" cy="232740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sp>
            <p:nvSpPr>
              <p:cNvPr id="91" name=""/>
              <p:cNvSpPr/>
              <p:nvPr/>
            </p:nvSpPr>
            <p:spPr>
              <a:xfrm>
                <a:off x="2402280" y="3292200"/>
                <a:ext cx="82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Time (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6200000">
                <a:off x="874800" y="2242800"/>
                <a:ext cx="1785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opulation size (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514520" y="3579840"/>
                <a:ext cx="1863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xponential Growt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5096160" y="1241280"/>
              <a:ext cx="2599560" cy="2647080"/>
              <a:chOff x="5096160" y="1241280"/>
              <a:chExt cx="2599560" cy="2647080"/>
            </a:xfrm>
          </p:grpSpPr>
          <p:pic>
            <p:nvPicPr>
              <p:cNvPr id="9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101560" y="1241280"/>
                <a:ext cx="2594160" cy="233028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sp>
            <p:nvSpPr>
              <p:cNvPr id="96" name=""/>
              <p:cNvSpPr/>
              <p:nvPr/>
            </p:nvSpPr>
            <p:spPr>
              <a:xfrm>
                <a:off x="5986800" y="3293640"/>
                <a:ext cx="82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Time (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6200000">
                <a:off x="4454280" y="2251080"/>
                <a:ext cx="1785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opulation size (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143320" y="143316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096160" y="3581280"/>
                <a:ext cx="153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Logistic Growt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0" name=""/>
          <p:cNvSpPr/>
          <p:nvPr/>
        </p:nvSpPr>
        <p:spPr>
          <a:xfrm>
            <a:off x="2503440" y="655632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3582360" y="4982040"/>
            <a:ext cx="15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umber of reind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85880" y="3970440"/>
            <a:ext cx="3262320" cy="2660760"/>
            <a:chOff x="785880" y="3970440"/>
            <a:chExt cx="3262320" cy="2660760"/>
          </a:xfrm>
        </p:grpSpPr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1467000" y="4002120"/>
              <a:ext cx="2581200" cy="229716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04" name=""/>
            <p:cNvSpPr/>
            <p:nvPr/>
          </p:nvSpPr>
          <p:spPr>
            <a:xfrm>
              <a:off x="1054440" y="3970440"/>
              <a:ext cx="394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054440" y="4518000"/>
              <a:ext cx="394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054440" y="5059440"/>
              <a:ext cx="394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123560" y="5605560"/>
              <a:ext cx="30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16200000">
              <a:off x="-149760" y="4965840"/>
              <a:ext cx="214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Number of sheep (million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04200" y="635472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8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64640" y="635472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82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128320" y="635472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8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621880" y="635472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87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052080" y="635472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9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511080" y="635472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92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4511160" y="3992400"/>
            <a:ext cx="3282480" cy="2656440"/>
            <a:chOff x="4511160" y="3992400"/>
            <a:chExt cx="3282480" cy="2656440"/>
          </a:xfrm>
        </p:grpSpPr>
        <p:sp>
          <p:nvSpPr>
            <p:cNvPr id="116" name=""/>
            <p:cNvSpPr/>
            <p:nvPr/>
          </p:nvSpPr>
          <p:spPr>
            <a:xfrm>
              <a:off x="4511160" y="4233960"/>
              <a:ext cx="56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2,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511160" y="4730760"/>
              <a:ext cx="56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,5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057280" y="637236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9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09520" y="637236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9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165360" y="637236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9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716160" y="637236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94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271640" y="637236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9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3" name="" descr=""/>
            <p:cNvPicPr/>
            <p:nvPr/>
          </p:nvPicPr>
          <p:blipFill>
            <a:blip r:embed="rId4"/>
            <a:stretch/>
          </p:blipFill>
          <p:spPr>
            <a:xfrm>
              <a:off x="5100480" y="3992400"/>
              <a:ext cx="2581560" cy="232596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24" name=""/>
            <p:cNvSpPr/>
            <p:nvPr/>
          </p:nvSpPr>
          <p:spPr>
            <a:xfrm>
              <a:off x="4511160" y="5216400"/>
              <a:ext cx="56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,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6920" y="570564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5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-230040" y="33066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9.4, p. 2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-230040" y="65833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9.5, p. 2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65833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9.6, p. 2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opulation Density Effec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11444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90480" y="1427040"/>
            <a:ext cx="6992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ensity-independent contro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14240" y="2533680"/>
            <a:ext cx="6568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ensity-dependent contro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Natural Population Curv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1444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57320" y="1263600"/>
            <a:ext cx="8404200" cy="5518800"/>
            <a:chOff x="157320" y="1263600"/>
            <a:chExt cx="8404200" cy="5518800"/>
          </a:xfrm>
        </p:grpSpPr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581040" y="1263600"/>
              <a:ext cx="7980480" cy="511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 rot="16200000">
              <a:off x="-827280" y="36334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umber of individu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244760" y="6445080"/>
              <a:ext cx="65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94240" y="5911560"/>
              <a:ext cx="99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rrup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542240" y="2241360"/>
              <a:ext cx="78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56400" y="462888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ycl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887720" y="1860120"/>
              <a:ext cx="100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rregul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397160" y="5495760"/>
              <a:ext cx="0" cy="40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943280" y="2599920"/>
              <a:ext cx="0" cy="48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4393800" y="202860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2565000" y="479700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7543800" y="646416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9.7, p. 2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The Role of Predation in Controlling Population Size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-48960" y="1547640"/>
            <a:ext cx="46778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edator-prey cyc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792320" y="1547640"/>
            <a:ext cx="4149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op-down contr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454480" y="2225520"/>
            <a:ext cx="4249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ottom-up contr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03120" y="2701800"/>
            <a:ext cx="8320320" cy="4194720"/>
            <a:chOff x="303120" y="2701800"/>
            <a:chExt cx="8320320" cy="4194720"/>
          </a:xfrm>
        </p:grpSpPr>
        <p:pic>
          <p:nvPicPr>
            <p:cNvPr id="154" name="" descr=""/>
            <p:cNvPicPr/>
            <p:nvPr/>
          </p:nvPicPr>
          <p:blipFill>
            <a:blip r:embed="rId1"/>
            <a:stretch/>
          </p:blipFill>
          <p:spPr>
            <a:xfrm>
              <a:off x="973080" y="2701800"/>
              <a:ext cx="765036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 rot="16200000">
              <a:off x="-666000" y="4124880"/>
              <a:ext cx="2215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opulation size (thousand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46120" y="274320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74880" y="2854440"/>
              <a:ext cx="7637400" cy="3370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46120" y="314640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4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6120" y="357012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46120" y="399564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27480" y="442260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8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27480" y="483552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27480" y="524988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27480" y="567540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09200" y="61117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3880" y="625464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84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515600" y="625464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85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22000" y="625464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86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6960" y="625464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87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36600" y="625464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88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733280" y="625464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89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39680" y="625464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9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49320" y="625464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9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151040" y="625464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92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957440" y="625464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93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41760" y="6620040"/>
              <a:ext cx="51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800840" y="3205080"/>
              <a:ext cx="52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a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801920" y="3973680"/>
              <a:ext cx="53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yn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7543800" y="65278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9.8, p. 2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PSD</cp:lastModifiedBy>
  <dcterms:modified xsi:type="dcterms:W3CDTF">2009-09-28T15:21:03Z</dcterms:modified>
  <cp:revision>32</cp:revision>
  <dc:subject/>
  <dc:title>PowerPoint Presentation</dc:title>
</cp:coreProperties>
</file>